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png" ContentType="image/png"/>
  <Override PartName="/ppt/media/image9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25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8280" y="771120"/>
            <a:ext cx="5102280" cy="38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199120" cy="4593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022640" y="9723240"/>
            <a:ext cx="3068640" cy="502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80C13-2607-4E03-97A2-C0E6C36128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21DA3-E8FD-4EA4-8C44-6B312DC9F3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5FCB1-DEAE-4C57-9505-7C5E347B33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B3F79-23EC-48DC-BEC0-15BE5B7294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97976-8537-4CB8-83F6-227BDAC981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20E29-BDF8-4085-A9C6-4A4427B337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10505-E4D6-4E8F-A643-8FF8044A39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23FD9-C602-4CB5-AFDD-E444A85E63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A8182-797B-4F5F-8D5C-9AFF9D9E79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26E11-8BBE-40FC-960D-69AA3837A1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BDD56-9375-4F27-9D46-73BB41DF6E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17C13-D68A-4380-82C2-AA1948D490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4B8B4-1EAA-4836-93E9-9580F00B93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2362F-33D7-4023-86DA-A35A94E94C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53BE8-D803-46E4-B509-1FC6DAE46C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BAAEE-DA98-4E41-B2FE-1411224B53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81E72-E54C-465C-95FA-13D8D75C3B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60341-5D25-4FBF-824F-FE623DD559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58E9D-DD22-48AB-944F-20F4A5EAE5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91939-6C61-45D5-A636-6078A86CB8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9CF5C-5523-44A6-A3C1-3528329C6F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29747-37B9-4B43-A46D-19FD56E52B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72E96-AFAD-49A4-ADD6-4498CB9362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6783E-EAA8-4C1E-BD11-B0952121AE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9C013-CBF7-4417-B282-9674CA8623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05EAE-8085-4A90-A57C-710BD84AAB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5568E-8372-4BA2-9F14-C8F9F0CEEE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9BDED-41E8-4B31-89B9-D33ED089CF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4865B-009F-4996-9472-353CFFBC14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CDA5F-50C3-415D-8B82-8910871227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8CAF2-28A0-4BA8-AFF0-75E0331E8E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94B94-7A14-45F8-9944-E07668C226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5059D-7C8D-44EB-91E2-7DFAE76489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8956E-EB42-4E0E-9050-B6CFA1248F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A005A-1849-4A6B-A096-A8837FD117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C3E15-23B4-4B2D-ADF6-C248CA1329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C8F31-8DCA-455B-A37C-49B1A089A6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BCF47-1CC6-4EA8-AC2C-10D947FFB9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2270C-0367-463B-BE18-93B2C18068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6E7BE-8906-409F-943E-DFCB4FD1AA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F6498-8BF0-4E6B-8225-C357ED821F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25695-CB86-48F9-9612-7C8E52DDCC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6A4DC-9FDC-4C94-A7F4-3A842904F3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F4655-5467-4B4D-8ABE-D01AC5AE35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E3F5F-48C8-4918-A712-49AB1589C8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4BEF3-3C51-4454-9BD0-E9F7F4E270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04407-C28A-4F6C-8885-5A79757DD9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A64A9-FD47-4DFF-B1F0-D617A2794E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CB71E-A156-4F11-B39C-AD07ACFC70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BBAEB-C975-48FF-8721-EC935C8F8D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1A73C-75B0-4E03-8B4E-0E1CCF2462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AB5C8-13D8-4B34-A18E-EC736E329E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3D358-E7F8-4A15-BC8A-D79C5CB990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06AFB-3759-4648-B21B-B5B786BC29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1C7DF-BD4B-4C8C-BBC5-327D67608B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B7306-8DCE-4A08-AA64-377ADD9E0D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54477-DC79-470C-BDDA-45BE07F019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9E36D-090B-478C-A4D9-E4169CFA87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2CC6D-C532-4BBC-9DDD-D454A67A0C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6590A-F4C0-4F1C-A603-6B5C003EDD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ACCA2-4705-4C08-9F0C-40D6182BE7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7A5EB-92FF-4CBA-B677-CE64B371DA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51DB0-AD6E-4CC1-A524-E7E4258310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B3B5F-7584-4AE5-B032-C976D2FAE1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2BDA0-1E6D-4F19-A96D-2EF5A5F3C8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E5030-18E0-47C3-881C-AD967D32EB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CE6E7-C033-4561-A164-0C664FDC1F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10EA0-F5AA-468C-8C91-4240C3D79C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8D6EC-BE66-4FC9-86F6-3760D88E05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91F6C-3411-4A94-95EF-A0B05871C8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F36F8-484E-4F8C-8000-E22BB267A2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03BA6-338E-4C47-9001-EFE27059A8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7E548-FC15-43E2-B5D9-10FA257638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AEEBA-6B24-4BCF-BF13-9C314447F3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54258-78DE-4306-8C15-308F6371F5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1D736-93B2-4211-A493-152AD8213A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A5E1A-9887-4D39-84D5-F9DD1587FC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034DE-A574-4615-A414-B3B3D4FE72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3DE49-EC6C-4A6E-AEC8-B418C31056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3A975-4B72-4026-A9FF-20154C881B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BE33E-CFAF-4B7C-877A-270739482C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21384-EE9F-4F2D-A7F1-01C2ED8BFA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F15DD-70C9-472E-A61F-A1B207B63D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57494-74F7-4565-BB08-8092B4F540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D58DD-7F1B-4786-B1E7-20277596D8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45D30-FE71-46ED-88F6-08060607C8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C2427-6A88-44EA-A2B9-A998C21A1F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BCE09-E930-45C9-AECF-1BBB3FDE31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861D-9CFB-4F58-AFB7-462EAD424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3CEC-E3AC-4D1A-9025-6D44704A5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0EA9D-E9AF-4D6D-83F1-885694F48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916E-05DF-4491-8348-E4DCBE35F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64F0-F6CD-447A-A0D8-E5CAE0C87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A429-F13E-41C6-929E-52E1DA49E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1B82-F931-4B72-9655-9C80C4858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E0F3-758E-4053-93EC-49EFCE30B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8447-1B52-4DAA-BB62-99E547000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5E58F-A45D-4E64-AE1D-273BF68FF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9A08-E1E6-4482-9036-3B6799901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A5C4-801C-4FBD-B64E-7C425327D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86760" y="6496200"/>
            <a:ext cx="906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01492-3ED0-44D0-ADCD-D6E59ADA41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ida.liu.se/labs/pelab/modelica/OpenModelic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56196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OpenModelica Eclipse Plugin and </a:t>
            </a:r>
            <a:br>
              <a:rPr sz="4800"/>
            </a:b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MetaModelica Exercis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1042920" y="3213000"/>
            <a:ext cx="712944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rian P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rebuchet MS"/>
              </a:rPr>
              <a:t>adrian.pop@liu.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ELAB/IDA/LIU,  2007-03-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Last Updated 2011-09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by Peter Fritzson and Martin Sjöl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67E42-136B-43E3-8F21-2E5362DD13D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ose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76F9A-A18E-4FAF-8732-A4FC1EF46B5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 to Modelica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B4A07-920E-47AF-AD5B-34313860F06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ow the OpenModelica Console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8FACF-DFFF-43B7-ACE5-5475D549439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0_simples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perform a simple simulation in the MDT Eclipse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 or copy a simple model into an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Open the Eclipse view “OpenModelica conso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imulate with the simulate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plot with the plot comm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Note: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following exercises you will no longer use the “OpenModelica conso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99C75-548A-4617-B55E-754EACCF1A5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01 - 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28465-C390-46B4-8D3B-2756069A30E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 the first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0" y="720720"/>
            <a:ext cx="65340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3A6F5-A193-4E11-94DD-E3DC4FD5550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 the first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 flipH="1">
            <a:off x="1971720" y="2700360"/>
            <a:ext cx="9144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 flipV="1">
            <a:off x="3780000" y="1254240"/>
            <a:ext cx="1979280" cy="181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616040" y="2049480"/>
            <a:ext cx="70995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use Rebuild Project or the but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ild Project only works if you modify a source f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having pressed the button once, Alt+B can be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280A2-5FE8-45BA-A1D4-12436E5715F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148" name="Line 4"/>
          <p:cNvSpPr/>
          <p:nvPr/>
        </p:nvSpPr>
        <p:spPr>
          <a:xfrm flipH="1">
            <a:off x="4564080" y="2133720"/>
            <a:ext cx="736560" cy="23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709080" y="1440000"/>
            <a:ext cx="42084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leans th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uns the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6"/>
          <p:cNvSpPr/>
          <p:nvPr/>
        </p:nvSpPr>
        <p:spPr>
          <a:xfrm flipH="1" flipV="1">
            <a:off x="2835360" y="4861080"/>
            <a:ext cx="1744560" cy="131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1619280" y="4861080"/>
            <a:ext cx="431640" cy="736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20680" y="5580000"/>
            <a:ext cx="38260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ax probl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pd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ave in the problems vie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586040" y="5950080"/>
            <a:ext cx="35899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ild and run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splay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D652C-8BD4-4549-B3A0-B2AB1C72D0F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042920" y="0"/>
            <a:ext cx="810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Debug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5294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D35AF-02B0-44D3-B77C-E76D6D81D8C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using OM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Very recent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Run target “deps” to build depend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n run the debug tar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Note: Programs that require stdin do not work yet (Eclipse does not send EO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You can print data structures using printAny(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94C4F-518A-48E5-ABFF-81390CCCFCA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Modelica MDT – Eclipse Plu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Browsing of packages, classes,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building of executables;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parate compi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yntax highligh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completion,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query support for develo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Ind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Debugger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(Prel. version for algorithmic subse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956200" y="1692360"/>
            <a:ext cx="299088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CCC92-6589-472E-84BE-D56372692FF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ting the debug config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457200" y="569880"/>
            <a:ext cx="8001000" cy="5067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9EB36-516A-4CBC-B80C-A662430AF24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up the debu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1"/>
          <p:cNvGrpSpPr/>
          <p:nvPr/>
        </p:nvGrpSpPr>
        <p:grpSpPr>
          <a:xfrm>
            <a:off x="5028840" y="1108080"/>
            <a:ext cx="3940560" cy="1182600"/>
            <a:chOff x="5028840" y="1108080"/>
            <a:chExt cx="3940560" cy="1182600"/>
          </a:xfrm>
        </p:grpSpPr>
        <p:sp>
          <p:nvSpPr>
            <p:cNvPr id="167" name="Line 4"/>
            <p:cNvSpPr/>
            <p:nvPr/>
          </p:nvSpPr>
          <p:spPr>
            <a:xfrm flipH="1">
              <a:off x="5028840" y="1941480"/>
              <a:ext cx="1523880" cy="349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Text Box 5"/>
            <p:cNvSpPr/>
            <p:nvPr/>
          </p:nvSpPr>
          <p:spPr>
            <a:xfrm>
              <a:off x="5562360" y="1108080"/>
              <a:ext cx="3407040" cy="8254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location where you installed OpenModelic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8"/>
          <p:cNvGrpSpPr/>
          <p:nvPr/>
        </p:nvGrpSpPr>
        <p:grpSpPr>
          <a:xfrm>
            <a:off x="174600" y="960480"/>
            <a:ext cx="3406680" cy="1554120"/>
            <a:chOff x="174600" y="960480"/>
            <a:chExt cx="3406680" cy="1554120"/>
          </a:xfrm>
        </p:grpSpPr>
        <p:sp>
          <p:nvSpPr>
            <p:cNvPr id="170" name="Text Box 5"/>
            <p:cNvSpPr/>
            <p:nvPr/>
          </p:nvSpPr>
          <p:spPr>
            <a:xfrm>
              <a:off x="174600" y="960480"/>
              <a:ext cx="340668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roject direct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4"/>
            <p:cNvSpPr/>
            <p:nvPr/>
          </p:nvSpPr>
          <p:spPr>
            <a:xfrm>
              <a:off x="1877760" y="1424160"/>
              <a:ext cx="1475280" cy="1090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Group 11"/>
          <p:cNvGrpSpPr/>
          <p:nvPr/>
        </p:nvGrpSpPr>
        <p:grpSpPr>
          <a:xfrm>
            <a:off x="174600" y="2669760"/>
            <a:ext cx="7750080" cy="662040"/>
            <a:chOff x="174600" y="2669760"/>
            <a:chExt cx="7750080" cy="662040"/>
          </a:xfrm>
        </p:grpSpPr>
        <p:sp>
          <p:nvSpPr>
            <p:cNvPr id="173" name="Text Box 5"/>
            <p:cNvSpPr/>
            <p:nvPr/>
          </p:nvSpPr>
          <p:spPr>
            <a:xfrm>
              <a:off x="174600" y="2872080"/>
              <a:ext cx="775008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GNU debugger (not Microsoft/Apple-provided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4"/>
            <p:cNvSpPr/>
            <p:nvPr/>
          </p:nvSpPr>
          <p:spPr>
            <a:xfrm flipV="1">
              <a:off x="2851560" y="2669760"/>
              <a:ext cx="501120" cy="20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3BBAE-57B6-4FF6-8D3F-0F8F4427750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 breakpoints in .mo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8" name="Line 4"/>
          <p:cNvSpPr/>
          <p:nvPr/>
        </p:nvSpPr>
        <p:spPr>
          <a:xfrm flipH="1" flipV="1">
            <a:off x="2043000" y="2916000"/>
            <a:ext cx="1548000" cy="159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411280" y="4508640"/>
            <a:ext cx="31687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lick on the ruler to set break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C2CE9-BAAA-404B-9EE5-1EF7A9A5F0A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95280" y="0"/>
            <a:ext cx="87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n the debug configuration to start debug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3" name="Line 4"/>
          <p:cNvSpPr/>
          <p:nvPr/>
        </p:nvSpPr>
        <p:spPr>
          <a:xfrm flipH="1" flipV="1">
            <a:off x="963720" y="973080"/>
            <a:ext cx="1619280" cy="317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403280" y="4149720"/>
            <a:ext cx="3384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nd select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 configu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bugging will st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9942F-DBD2-4C8D-8DB0-3D5313287B5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clipse will ask to switch to debugging persp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DEDD2-CCA8-46BA-9CB7-BCE18569CCA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1" name="Line 4"/>
          <p:cNvSpPr/>
          <p:nvPr/>
        </p:nvSpPr>
        <p:spPr>
          <a:xfrm flipV="1">
            <a:off x="1763640" y="1333440"/>
            <a:ext cx="2016360" cy="347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9640" y="4797360"/>
            <a:ext cx="31687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buttons to ste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6"/>
          <p:cNvSpPr/>
          <p:nvPr/>
        </p:nvSpPr>
        <p:spPr>
          <a:xfrm flipV="1">
            <a:off x="5219640" y="1620360"/>
            <a:ext cx="36036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643280" y="450864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variables 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here is a tab with breakpo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3C03D-4B68-4CFD-A56A-B1E9B092B80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ing persp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  <p:sp>
        <p:nvSpPr>
          <p:cNvPr id="198" name="Line 4"/>
          <p:cNvSpPr/>
          <p:nvPr/>
        </p:nvSpPr>
        <p:spPr>
          <a:xfrm flipV="1">
            <a:off x="4448160" y="1476000"/>
            <a:ext cx="3579840" cy="303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276720" y="4508640"/>
            <a:ext cx="35272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Debug and Modelica Persp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E2851-F5E2-4375-A9CB-BD4A084CC18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repeat the procedure for all 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leave open only the project you are working on!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ose all the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C894C-0905-4359-862E-D8F61495641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198360" y="620640"/>
            <a:ext cx="862164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53FDF-3771-4588-8FAD-C7E1882F6E4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Opening 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396720" y="620640"/>
            <a:ext cx="8352000" cy="626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924280" cy="5819760"/>
          </a:xfrm>
          <a:prstGeom prst="rect">
            <a:avLst/>
          </a:prstGeom>
          <a:ln w="0">
            <a:noFill/>
          </a:ln>
        </p:spPr>
      </p:pic>
      <p:sp>
        <p:nvSpPr>
          <p:cNvPr id="210" name="Line 5"/>
          <p:cNvSpPr/>
          <p:nvPr/>
        </p:nvSpPr>
        <p:spPr>
          <a:xfrm>
            <a:off x="4572000" y="2060640"/>
            <a:ext cx="100800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733400" y="5445000"/>
            <a:ext cx="38275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n additional vie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Window-&gt;ShowView-&gt;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8F3F1-A674-4EA6-BA5E-A6540CEB2F8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clipse and Exercise Set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8-11 – as samples of Prog. Lang. mod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21708-F6C3-4B67-99EF-439AB417355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25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Each exercise is in a different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ll exercises hav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README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- information about the 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– the solution of the exercise (if the exercise has some implementation assign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program.txt</a:t>
            </a:r>
            <a:r>
              <a:rPr b="1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– input program to the exercise, edit if needed (for the exercises which have an in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nsult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MetaModelica Programming Guid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(1.0 Draft or 2.0) and the slides if you need additional information during the exercis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Of course, feel free to ask us any type of questions, it is faster and bett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C5381-5B9C-40D1-AA95-B09DAFF11D9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1_experi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functions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display the constants defined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Main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E9E35-9D78-43AE-A253-6C493F8F363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a_exp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will add new constructs to the exp1 language and deal with their evalu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- add new constructs to the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power operator   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^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factorial operat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N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parser/lexer are ready, but give parser errors for the new operators until they are added 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D3EBA-D195-4950-BEED-722EFD2C2B0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b_ex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model the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1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language using different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t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xplore th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2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 and compare it with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1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2B3B0-A2EE-4318-BBE6-74AA2863854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3_symbolicderi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derive ‘-’, ‘*’, sine, cosine and power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simplify ‘-’, sine, cosine and power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SymbolicDerivative.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AABE3-7CEC-4B40-8622-F5E562CD275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4_assig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assignments present in the current program before the actual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environment after it was augmented with the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ment.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D00CD-FE77-4214-AD87-49EE055DF1C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a_assigntw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a new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ype which can hold only integers as strings to the current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xp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n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cases to evaluate expressions/assignments of the form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"2" + 1 + "1" + 1.0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val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TwoType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4A11E-6D6A-42FC-8ADC-7E27E35915D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b_modassigntw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structure your code within different pack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e code from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05a_assigntwotyp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s now split over 4 pack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ompare the 05a/b pro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01408-DD95-4C6F-B28C-CE6B907274F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polymorphic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higher order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function that orders a list of any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function has as input a list and a compare function between the objects of that lis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e comparison functions f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Integers</a:t>
            </a:r>
            <a:r>
              <a:rPr b="0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,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Real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est your function o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C50A6-075C-4A03-AC8F-FF3D47E85CB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function over a list and returns a new list with the resu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ree functions that transform fro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re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real to str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your map function and the two transformation functions to transform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a list of reals and a list of string, then apply the ordering function from Assignment 1 on the newly created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2AE4E-7708-46D0-9872-498A0AE7353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ed Exercises in this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1FAB5-A935-46BB-BBDF-03CFCE1C7B8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print function over a list (of Strings) and prints the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the transformer functions from real-&gt;string and integer-&gt;string from Assignment 2 to transform the real list or the integer list to a string list for pri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175BF-6E76-4BC0-BE3C-4D31E12B78F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Overvie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13159"/>
                </a:solidFill>
                <a:latin typeface="Trebuchet MS"/>
              </a:rPr>
              <a:t>We are Switching to OMC Overview now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DDE85-BADF-46FE-9CF2-F2C69B531B8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4644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Development Toolkit (OMDev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MDev is a pre-packaged pre-compiled kit containing all tools needed for OpenModelica development.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Just unpack and set some environment variables. (Windows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apt-get build-dep openmodelica (Ubuntu/Debian Linux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ort  install depends:openmodelica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MetaModelica Compiler (MMC) – for developing OMC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penModelica Compiler (OMC) – for browsing suppor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Eclipse plugin MDT – (Modelica Development Tooling), e.g. for compiler (OMC) developmen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re-compiled Corba (MICO or omniORB) for tool communication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ackaged Gnu compiler (GCC; Mingw version for Windows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Emacs mode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nline (web) Subversion for version handling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nline (web) Codebeamer for bug reporting and managemen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Automatic regression testing using a test suite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Unit testing using the bootstrapped OpenModelica Compiler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Interactive MetaModelica debugger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5AE26-BFE2-4410-AFE1-E4F10F83686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250920" y="-79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Environment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2614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546120" y="1509840"/>
          <a:ext cx="7918560" cy="39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09840"/>
                    <a:ext cx="7918560" cy="39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1E229-FFC6-49F6-A24D-AB8F430DDEA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lient-Server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233360" y="1201680"/>
          <a:ext cx="657072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201680"/>
                    <a:ext cx="657072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28C60-77FA-40C1-803E-737A4EA1FB2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leased in OpenModelica 1.7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Compiler/Interpreter – OM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teractive session handler – OMSh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Notebook with DrModelica and DrControl –  OM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Eclipse plugin M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MEdit connection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etaModelica Debu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New version in OpenModelica 1.8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C2730-2B01-4DE0-A43B-40DE2B079FD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ompiler/Interpr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03040" y="1125360"/>
            <a:ext cx="876312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OpenModelica 1.7.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Currently implemented in 194 000 lines of MetaModelica (excl. generated code, external C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Includes code generation, BLT-transformation, index reduction, connection to DASSL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Most of the Modelica 3.1 language including classes, functions, inheritance, modifications, import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Hybrid/Discrete event suppor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6EC41-68B3-4263-9E3B-EE5AC4C4FB9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rba Client-Server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04920" y="914400"/>
            <a:ext cx="71247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ple text-based (string) communication in Modelica Synt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PI supporting model structure query and up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635040" y="2803680"/>
            <a:ext cx="714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Call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ulfill the normal Modelica function call syntax.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veModel("MyResistorFile.mo",MyResis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ave the model MyResistor into the file “MyResistorFile.mo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ating new models it is most practical to send a model, e.g.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Foo   end Foo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e.g.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or Port   end Por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11994-8D93-4C12-AEAF-1E9C286BBE9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of the Corba API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03040" y="765000"/>
          <a:ext cx="8510760" cy="24054120"/>
        </p:xfrm>
        <a:graphic>
          <a:graphicData uri="http://schemas.openxmlformats.org/drawingml/2006/table">
            <a:tbl>
              <a:tblPr/>
              <a:tblGrid>
                <a:gridCol w="3237120"/>
                <a:gridCol w="5273640"/>
              </a:tblGrid>
              <a:tr h="4921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saveModel(A1&lt;string&gt;,A2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33516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r" pos="3392640"/>
                          <a:tab algn="l" pos="3649680"/>
                          <a:tab algn="l" pos="4564080"/>
                          <a:tab algn="l" pos="5478480"/>
                          <a:tab algn="l" pos="6392880"/>
                          <a:tab algn="l" pos="7307280"/>
                          <a:tab algn="l" pos="8221680"/>
                          <a:tab algn="l" pos="9136080"/>
                          <a:tab algn="l" pos="10050480"/>
                          <a:tab algn="l" pos="10326600"/>
                          <a:tab algn="l" pos="1077588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Saves the model (A2) in a file given by a string (A1). This call is also in typed API.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File(A1&lt;string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all models in the file. Also in typed API. Returns list of names of top level classes in the loaded fil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the model (A1) by looking up the correct file to load i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$MODELICAPATH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Loads all models in that file into the symbol table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las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lass from the symbol tabl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mponent(A1&lt;ident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a component (A1) within a class (A2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lassAnnotation(A1&lt;cref&gt;, 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nnotation given by A2( in the form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 classmod(...)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the model definition referenced by A1. Should be used to add Icon Diagram and Documentation annotation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15408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of the component declarations within class A1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154080" algn="just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{Atype,varidA,”commentA”},{Btype,varidB,”commentB”}, {...}}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Annotations(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...}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f all annotations of all components in A1, in the same order as the components, one annotation per compon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mponents in a class, e.g retur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2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there are 2 component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belonging class, component name and type name of the nth component of a clas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A.B.C,R2,Resistor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here the first component is numbered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flattened annotation record of the nth component  (A2) (the first is has no 1) within class/component A1. Consists of a comma separated string of 15 values, see Annotations in Section 2.4.4 below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false,10,30,...”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Modification(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?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modification of the nth component  (A2) where the first  has no 1) of class/component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nheritance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inherited classes of a clas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InheritedClass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type name of the nth inherited class of a class. The first class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ion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nnections in the mode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, as a comma separated pair of connector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R1.n,R2.p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 annotation as comma separated list of values of a flattened record, see Annotations in Section 2.4.4  below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nnection(A1&lt;cref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 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connectio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connect(A1,A2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model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ith annotation given by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nnectio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onnection connect(A1,A2) in class given by A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Equation(A1&lt;cref&gt;,A2&lt;expr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expr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the equation A2=A3 to the model named by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Equation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equations (as a string) in the model named A1. (This includes connection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Equation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(A2) equation of the model named by A1.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der(x)=-1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connect(A.b,C.a)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NthEqua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nth (A2) equation in the model named by A1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or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connectors (as a string) of a class A1. NOTE: partial code instantiation of inheritance is performed before investigating the connector count, in order also to get the inherited connector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 of the nth connector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n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connector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Ic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icon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DiagramAnnotation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diagram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conAnnota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Icon Annotation of the class named by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DiagramAnnota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Diagram annotation of the class named by A1. NOTE: Since the Diagram annotations can be found in base classes a partial code instantiation is performed that flattens the inheritance hierarchy in order to find all annotation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s in a class/package named by A1 as a list, e.g.: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Electrical,Blocks,Mechanics, Constants,Math,SIunits}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 definitions in the global scop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tions in a class/packag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itions in the global scop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Restric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kind of restricted class of &lt;cref&gt;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model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connector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unction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packag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etc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Typ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imitiv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of primitive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nector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connecto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Record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recor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Block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block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Func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function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ckag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las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lass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rameter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paramete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sta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onstant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otected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protecte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Class(A1&lt;cref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Tabl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Packag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988EC-4B8A-4369-9B93-BE1D7F98C52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t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0492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OpenModelica GUI tools (OMShell, OMNotebook, ...) are developed on top of the Qt4 GUI library, portable between Windows, Linux, M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Both compilers (OMC, MMC) are portable between the three platforms and compiled nigh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Windows – main release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Linux – main development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Mac – 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058D7-95B8-4E67-A17F-E4039A4B1A2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Switching Work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04640" y="608040"/>
            <a:ext cx="8332920" cy="624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371840" cy="232416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2484360" y="3429000"/>
            <a:ext cx="151128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265200" y="1800360"/>
            <a:ext cx="465516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n work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import many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BDBFA-591B-4304-993F-BE83E412FCC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Switching to Java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83A35-DB55-4E53-912F-09BCA372D1C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7_OMCAnd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send commands to the OMC Compiler (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omc.ex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) via 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OMCProxy.java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has functionality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tarting the omc process if is not already sta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starting is a bit different for Windows/Lin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nding commands to O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logging fac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f you need clients in C++ or Python ch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DejaVu Sans"/>
                <a:hlinkClick r:id="rId1"/>
              </a:rPr>
              <a:t>http://www.ida.liu.se/labs/pelab/modelica/OpenModelica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developer 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378A8-7101-437D-B3D8-09624315F53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468360" y="627120"/>
            <a:ext cx="8307360" cy="6230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0" y="209556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3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89" name="Oval 6"/>
          <p:cNvSpPr/>
          <p:nvPr/>
        </p:nvSpPr>
        <p:spPr>
          <a:xfrm>
            <a:off x="2266920" y="6308640"/>
            <a:ext cx="936720" cy="54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7"/>
          <p:cNvSpPr/>
          <p:nvPr/>
        </p:nvSpPr>
        <p:spPr>
          <a:xfrm flipV="1">
            <a:off x="3274920" y="3492000"/>
            <a:ext cx="237672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1258920" y="5013360"/>
            <a:ext cx="9367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9"/>
          <p:cNvSpPr/>
          <p:nvPr/>
        </p:nvSpPr>
        <p:spPr>
          <a:xfrm flipH="1">
            <a:off x="1108080" y="1125360"/>
            <a:ext cx="2967120" cy="352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7E4B6-3935-45A7-BBB0-F16582531ED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dministrative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What would you like to implement tomorr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in the OpenModelica Compil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47880"/>
            <a:ext cx="7467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ort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le → Impor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General → Existing projects into workspac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2340000"/>
            <a:ext cx="9144000" cy="39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B9D11-CE03-4A89-B95E-6894E542ECA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 and Open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ABFD5-A102-46B4-A355-D82969E5672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n't build projects automa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23840" y="720720"/>
            <a:ext cx="887724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79FF7-91C5-4BD4-A7FB-DBEBCBA8C96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resh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2:12:12Z</dcterms:created>
  <dc:creator>Adrian Pop [adrpo@ida.liu.se, http://www.ida.liu.se/~adrpo]</dc:creator>
  <dc:description/>
  <dc:language>en-US</dc:language>
  <cp:lastModifiedBy>Martin Sjolund</cp:lastModifiedBy>
  <cp:lastPrinted>2001-06-05T14:43:50Z</cp:lastPrinted>
  <dcterms:modified xsi:type="dcterms:W3CDTF">2011-09-17T10:39:23Z</dcterms:modified>
  <cp:revision>69</cp:revision>
  <dc:subject>MetaModelica</dc:subject>
  <dc:title>MetaModelica Tutorial and Exercises</dc:title>
</cp:coreProperties>
</file>